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78441-ECDE-4705-BB9B-4DDBF859B9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EB01D-6106-41ED-9A17-C66E801788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08C2-1508-4621-B7B8-48866BB7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264C-8A68-430F-877D-52F99ED4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7C97-E2E0-44AC-A0E5-4A345AE6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EE1-C21A-4048-9A1E-6ACFE1D4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A344-369E-4D12-A49D-B5889293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85DD-936A-4D8B-AD09-0D451A64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C6E8-008E-4166-AA9F-F74506E2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3956-A8E7-41AA-BC0A-DB18A16B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41A0-3ACF-485A-986E-2174C291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6A99-AB9E-44D2-AF31-8EAA8C85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0343-F04C-49CC-9526-BFBF14F5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4F44-A897-4E0C-9EC5-DF9C83C6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07 Fundamentals of 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4008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Basics - Exceptions and File I/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0E6E-946C-4303-A77C-6DD160A571D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../jdk14/docs/api/java/lang/String.html" TargetMode="External"/><Relationship Id="rId2" Type="http://schemas.openxmlformats.org/officeDocument/2006/relationships/hyperlink" Target="file:///../../jdk14/docs/api/java/io/FileNotFoundException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D920-F7C7-4345-A335-50F1FDD0040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xceptions-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rrors and Error handling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80880" y="5197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457200" y="1676520"/>
            <a:ext cx="868680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LESSON OBJEC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at are Err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Various type of err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ow to handle err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XCEPTIONS (in JA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ierarchy of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reating excep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reventing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4166-DF1E-4E07-84E4-22F922474BB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quired Error Handling Co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call a method that can generate a checked exception you must choose how to deal with that possibl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 one class for reading from files is the FileReader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leReader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 fileName) throw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urier New"/>
                <a:hlinkClick r:id="rId2"/>
              </a:rPr>
              <a:t>FileNotFoundEx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onstructor has the possibility of throwing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leNotFound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leNotFoundExce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hecked 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D81D-D96E-4D4F-97CB-7044DBDF740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ecked Exceptions in Co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have code that tries to build a FileReader we must deal with the possibility of the 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e contains a syntax error. "unreported exception java.io.FileNotFoundException; must be caught or declared to be thrown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16120" y="1503360"/>
            <a:ext cx="7495920" cy="358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io.FileRea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T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countChars(String file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Reader r = new FileReader(file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otal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 r.ready(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.rea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tal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ot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B085-279B-45E7-94B0-6111CF58F56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andling Checked Excep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ode on the previous slide there are in fact 4 statements that can generate checked excep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leReader co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dy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d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os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al with the exceptions we can either state this method throws an Exception of the proper type or handle the exception within the method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1895-D785-4390-A648-A9A04E43F53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ethods that throw Excep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y be that we don't know how to deal with an error within the method that can generat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case we will pass the buck to the method that called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wor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sed to indicate a method has the possibility of generating an exception of the state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ny method calling ours must also throw an exception or handl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919F-05D7-4E92-BEEC-D5EBC4C0B63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Using the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throw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Keywo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46240" y="835200"/>
            <a:ext cx="8593200" cy="41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countChars(String fileName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s FileNotFoundException, IO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total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Reader r = new FileReader(fileNa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r.ready(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.rea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tal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.clos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tot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480240" y="5105520"/>
            <a:ext cx="756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ny method calling ours must als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throw an exception or handl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5B3F-8D35-4440-BB2A-F810065B77E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Using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try-catch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Block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 to handle the a checked exception locally then use use the keyword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de that could cause an exception is placed in a block of code preceded by the keywor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de that will handle the exception if it occurs is placed in a block of code preceded by the keywor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5BC1-FACC-42E1-B87C-F621AD677E7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ample </a:t>
            </a:r>
            <a:r>
              <a:rPr b="0" lang="en-US" sz="4000" spc="-1" strike="noStrike">
                <a:solidFill>
                  <a:srgbClr val="ff0000"/>
                </a:solidFill>
                <a:latin typeface="Courier New"/>
              </a:rPr>
              <a:t>try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0" lang="en-US" sz="4000" spc="-1" strike="noStrike">
                <a:solidFill>
                  <a:srgbClr val="ff0000"/>
                </a:solidFill>
                <a:latin typeface="Courier New"/>
              </a:rPr>
              <a:t>catch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Block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270000" y="544680"/>
            <a:ext cx="8562600" cy="578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untChars(String fileN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otal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Reader r = new FileReader(fileNa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 r.ready(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.rea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tal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.clos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tch(FileNotFoundException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ile named "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fileName + "not found. " + 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tal = -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tch(IOException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OException occured "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while counting chars. " + 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tal = -1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ot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BED9-C1A0-4C87-B745-519F98BCF52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echanics of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try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catch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that could cause the checked exception is placed in a try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how the statements are included in one try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atement could be in a separate try block with an associated catch block, but that is very unwieldy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ry block must have 1 or more associated catch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here to handle the error. In this case we just print out the error and set result to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85AA-992F-4FA0-A94B-66814628487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acky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try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catch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Block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800" y="723960"/>
            <a:ext cx="9324720" cy="57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int countChars3(String fileNam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total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leReader r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 = new FileReader(fileName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ch(FileNotFoundException 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File named 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 fileName + "not found. " + 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tal = -1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( r.ready()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.read(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ch(IOException 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IOException 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 "occurred while counting "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 "chars. " + 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tal = -1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tal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ch(IOException 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    System.out.println("IOException occurred while counting chars. " + e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tal = -1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    r.clo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ch(IOException 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    System.out.println("IOException occurred while counting chars. " + e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tal = -1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ot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B8D7-445B-4C98-9312-20837083F3E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re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try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catch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Mechanic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ecide to handle the possible exception locally in a method with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lock you must have a corresponding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locks have a parameter list of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ameter must b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a descendant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multipl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locks with on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lock in case of multiple types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DC2D-124F-464C-B52F-410B7088AA9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en Good Programs Go Ba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ariety of errors can occur when a program is running.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al) user input error. bad u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 errors. remote server un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limitations. full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rrors. interact with code that does not fulfill its contact (pre and post condi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n error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safe state, save work, exit grac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 handling code may be far removed from code that caused th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F198-4F81-4943-93E4-FF6343BC752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at Happens When Exceptions Occu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 exception is thrown then the normal flow of control of a program ha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executing the regular statements the Java Runtime System starts to search for a matching catch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matching catch block based on data type is exec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catch block code is completed the program does not "go back" to where the exception occurr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finds the next regular statement after the catch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E398-2B9C-43B2-A942-0BB88ACE850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unting Chars Agai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countChars(String file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otal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Reader r = new FileReader(file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 r.ready(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.read();// what happens in an exception occu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tal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tch(FileNotFoundException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File named "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fileName + "not found. " + 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tal = 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tch(IOException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IOException occured "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while counting chars. " + 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tal = -1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ot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5522-8E90-4610-BA9A-DCC70808CDC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rowing Exceptions Yourself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ish to throw an exception in your code you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r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would be for an unmet pre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58760" y="2314440"/>
            <a:ext cx="8715240" cy="385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Cir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iMyRadiu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** pre: radius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ircle(int radi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adius &lt;=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IllegalArgumentExcep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"radius must be &gt; 0. 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"Value of radius: " + radiu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yRadius = radiu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485B-8D20-4489-A77B-0AE13F58868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ttendance Question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320" y="838080"/>
            <a:ext cx="8991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output by th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d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it is called with the following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nums = {3, 2, 6, 1}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dUse( nums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badUse(int[] vals)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int total = 0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try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for(int i = 0; i &lt; vals.length; i++)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int index = vals[i]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total += vals[index]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catch(Exception e)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total = -1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total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1BAB-1F5B-412E-AECA-E44E0695D89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ttendance Question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use of a try-catch block on the previous question a proper use of try-catch bloc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8478-4A32-4B6F-88DC-0A8F72E39C7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rror Handling, Error Handling Everywhere!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s like a lot of choices for error prevention and error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program logic, e.g. if’s for loop cou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– catch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s it appropriate to use each ki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0BEC-A5E6-4857-BCA5-54459403AC6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rror Preven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program logic, (ifs , fors) to prev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gic err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unchecked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eferencing a null pointer, going outside the bounds of an array, violating the preconditions of a method you are calling. e.g.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ssertions as checks on you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hecked to ensure the variabl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within the array bounds with an if 10 lines up in the program and you are SURE you didn’t alter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ght before you actually access the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inbounds(index) 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  // lots of related co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// use an assertion before ac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Var[index] = foo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7EF1-9376-4D34-9B28-7B7D1B65E33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rror Preven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ry/catch blocks on checked exce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lace it is reasonable to use try / catch is in testing sui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each test in a try / catch. If an exception occurs that test fails, but other tests can still be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0BFC-7020-4AF3-AAAC-E870F2D20C1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w to Handle Errors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possible to detect and handle errors of various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this complicates the code and makes it harder to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rror detection and error handling code have little or nothing to do with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de is trying to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adeoff between ensuring correct behavior under all possible circumstances and clarity of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B036-B670-44BC-BB25-FC8031A302B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ception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languages, including Java use a mechanism know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cep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handle errors at run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Java Exception is a class with many descend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ayIndexOutOfBounds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llPointer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eNotFound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ithmetic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legalArgument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5749-C6E9-43C0-816A-A0912904CDB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rtial Exceptions Hierarch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650400" y="826920"/>
            <a:ext cx="184176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w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528640" y="2766960"/>
            <a:ext cx="211932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121360" y="2766960"/>
            <a:ext cx="306864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time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46480" y="3879720"/>
            <a:ext cx="1821960" cy="398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OF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2666880" y="3879720"/>
            <a:ext cx="1752840" cy="70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NotFou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2985120" y="5162400"/>
            <a:ext cx="1311480" cy="70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met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433760" y="5216400"/>
            <a:ext cx="1425960" cy="70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Poin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6185160" y="5216400"/>
            <a:ext cx="1299240" cy="1008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Ou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Boun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7709040" y="5216400"/>
            <a:ext cx="1299240" cy="1008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eg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gu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 flipV="1">
            <a:off x="3809880" y="2320920"/>
            <a:ext cx="3049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5"/>
          <p:cNvSpPr/>
          <p:nvPr/>
        </p:nvSpPr>
        <p:spPr>
          <a:xfrm flipV="1">
            <a:off x="2286000" y="331128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 flipV="1">
            <a:off x="3886200" y="331128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7"/>
          <p:cNvSpPr/>
          <p:nvPr/>
        </p:nvSpPr>
        <p:spPr>
          <a:xfrm flipH="1" flipV="1">
            <a:off x="5181480" y="232092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8"/>
          <p:cNvSpPr/>
          <p:nvPr/>
        </p:nvSpPr>
        <p:spPr>
          <a:xfrm flipV="1">
            <a:off x="4114800" y="3311640"/>
            <a:ext cx="1219320" cy="1828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9"/>
          <p:cNvSpPr/>
          <p:nvPr/>
        </p:nvSpPr>
        <p:spPr>
          <a:xfrm flipV="1">
            <a:off x="5181480" y="3387600"/>
            <a:ext cx="609840" cy="1828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0"/>
          <p:cNvSpPr/>
          <p:nvPr/>
        </p:nvSpPr>
        <p:spPr>
          <a:xfrm flipH="1" flipV="1">
            <a:off x="6629040" y="3311280"/>
            <a:ext cx="152280" cy="1904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1"/>
          <p:cNvSpPr/>
          <p:nvPr/>
        </p:nvSpPr>
        <p:spPr>
          <a:xfrm flipH="1" flipV="1">
            <a:off x="7772400" y="3311280"/>
            <a:ext cx="533520" cy="1904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2"/>
          <p:cNvSpPr/>
          <p:nvPr/>
        </p:nvSpPr>
        <p:spPr>
          <a:xfrm>
            <a:off x="306720" y="4724280"/>
            <a:ext cx="22183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any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, ma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3"/>
          <p:cNvSpPr/>
          <p:nvPr/>
        </p:nvSpPr>
        <p:spPr>
          <a:xfrm>
            <a:off x="1462680" y="1676520"/>
            <a:ext cx="97164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4"/>
          <p:cNvSpPr/>
          <p:nvPr/>
        </p:nvSpPr>
        <p:spPr>
          <a:xfrm>
            <a:off x="3727440" y="1752480"/>
            <a:ext cx="174420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5"/>
          <p:cNvSpPr/>
          <p:nvPr/>
        </p:nvSpPr>
        <p:spPr>
          <a:xfrm flipV="1">
            <a:off x="2209680" y="1371240"/>
            <a:ext cx="16002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6"/>
          <p:cNvSpPr/>
          <p:nvPr/>
        </p:nvSpPr>
        <p:spPr>
          <a:xfrm flipH="1" flipV="1">
            <a:off x="4876560" y="1371600"/>
            <a:ext cx="2286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EE53-348B-4F3E-924F-453C954E159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eating Excep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program runs, if a situation occurs that is handled by exceptions then an Exception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ception object of the proper type is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of control is transferred from the current block of code to code that can handle or deal with the 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rmal flow of the program stops and error handling code takes over (if it exist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28CE-2F85-4F53-9955-6307B5AF1A6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ttendance Question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possible for the following method to result in an excep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pre: word != 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Length(String word)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String output = "Word length is " + word.length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System.out.println( output 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2464-DAC1-4809-80CA-A6BC4DB0305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Unchecked Excep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s in Java fall into two different categ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ecked (other than Runtime) and unchecked (Run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hecked exceptions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letely preven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hould never occ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caused by logic errors, created by us, the program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endents of the RuntimeException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ArrayIndexOutOfBoundsException, NullPointerException, Arithmetic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does no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be special error handling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regular error preventio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rror handling code was required programs would be unwieldy because so many Java statements have the possibility of generating or causing an unchecked 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7630-4E1D-495B-98B8-3A777387421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ecked Excep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Checked exceptions represent conditions that, although exceptional, can reasonably be expected to occur, and if they do occur must be dealt with in some way.[other than the program terminating.]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ava Programming Language third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hecked exceptions are due to a programming logic error, our fault and preventable if coded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ed exceptions represent errors that are unpreventable by 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mnicholas</cp:lastModifiedBy>
  <dcterms:modified xsi:type="dcterms:W3CDTF">2012-01-15T09:26:21Z</dcterms:modified>
  <cp:revision>77</cp:revision>
  <dc:subject/>
  <dc:title>PowerPoint Presentation</dc:title>
</cp:coreProperties>
</file>